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8.jpeg" ContentType="image/jpeg"/>
  <Override PartName="/ppt/media/image22.wmf" ContentType="image/x-wmf"/>
  <Override PartName="/ppt/media/image26.gif" ContentType="image/gif"/>
  <Override PartName="/ppt/media/image20.png" ContentType="image/png"/>
  <Override PartName="/ppt/media/image18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6.jpeg" ContentType="image/jpeg"/>
  <Override PartName="/ppt/media/image9.wmf" ContentType="image/x-wmf"/>
  <Override PartName="/ppt/media/image31.wmf" ContentType="image/x-wmf"/>
  <Override PartName="/ppt/media/image35.gif" ContentType="image/gif"/>
  <Override PartName="/ppt/media/image38.jpeg" ContentType="image/jpeg"/>
  <Override PartName="/ppt/media/image17.wmf" ContentType="image/x-wmf"/>
  <Override PartName="/ppt/media/image32.jpeg" ContentType="image/jpeg"/>
  <Override PartName="/ppt/media/image33.wmf" ContentType="image/x-wmf"/>
  <Override PartName="/ppt/media/image29.jpeg" ContentType="image/jpeg"/>
  <Override PartName="/ppt/media/image27.jpeg" ContentType="image/jpeg"/>
  <Override PartName="/ppt/media/image13.wmf" ContentType="image/x-wmf"/>
  <Override PartName="/ppt/media/image36.wmf" ContentType="image/x-wmf"/>
  <Override PartName="/ppt/media/image5.wmf" ContentType="image/x-wmf"/>
  <Override PartName="/ppt/media/image16.jpeg" ContentType="image/jpeg"/>
  <Override PartName="/ppt/media/image30.wmf" ContentType="image/x-wmf"/>
  <Override PartName="/ppt/media/image34.gif" ContentType="image/gif"/>
  <Override PartName="/ppt/media/image37.wmf" ContentType="image/x-wmf"/>
  <Override PartName="/ppt/media/image7.png" ContentType="image/png"/>
  <Override PartName="/ppt/media/image15.wmf" ContentType="image/x-wmf"/>
  <Override PartName="/ppt/media/image12.wmf" ContentType="image/x-wmf"/>
  <Override PartName="/ppt/media/image8.png" ContentType="image/png"/>
  <Override PartName="/ppt/media/image10.wmf" ContentType="image/x-wmf"/>
  <Override PartName="/ppt/media/image2.png" ContentType="image/png"/>
  <Override PartName="/ppt/media/image4.wmf" ContentType="image/x-wmf"/>
  <Override PartName="/ppt/media/image1.png" ContentType="image/png"/>
  <Override PartName="/ppt/media/image14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3F25-B05E-421E-8785-EC96271B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ACD-8C5C-4031-BB61-BFCCA45A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EC9-083F-428A-BC7D-3BAFE978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70D-4F87-4C7A-BEF6-D216214E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E336-8463-400A-94AB-AFD33711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69AF-532F-4171-972B-F761A123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7311-8DDE-4DC1-BE77-B04CA616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321C-FD06-4CEC-9999-63C817F7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1ACB-3811-42A9-B6BE-4DABDCCB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5179-8B65-4A1E-B032-995DEF25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BDD9-BA03-4AA4-B8C7-8FD550D5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2F4-AB88-49D8-B218-D762E0C4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2B0F-543D-407A-B1E3-AE801ECF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AE41-9E37-44E1-A8B6-1F5764FB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6E7E-C4BE-4375-8600-79358BDD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D5A3-D1D6-4FE9-83DB-00E05108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B4BD-C140-459B-808C-0AAFEA92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D2A-21B0-4F05-907B-963DBF60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1E7B-15FD-4D44-AB34-30FE9C2A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3E9-F56B-49B6-89C1-A9FBDE3B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6BE-740D-49C4-AB7F-9F52E7DE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C2EF-7881-4974-9CC3-BA4EE601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A2D-29AA-4B42-B75C-760EC86D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69F-4ED1-4456-82D9-D6DA1CBC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65F9-D5E0-40D1-B0EF-F0E7B408AF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929B-52E2-4F1C-9829-D162E3DC00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cial Heal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it 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263844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ys to get along with other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 loyal, truthful, and dependable fri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nor other people’s feel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ect other people’s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to disagree without argu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to resolve conflicts effectiv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support and help when it i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7021440" y="4983120"/>
            <a:ext cx="14652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Healthful Friendship (CSHE p. 15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healthful friendship is a balanced relationship that promotes mutual respect and healthful behavi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ing healthful friendships improves the quality of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s take a personal interest in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upport each other in their successes and encourage each other during difficult 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riend is a gift you give yourself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friends share interests, help each other solve problems, teach each other new things and help each other feel good about them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ave a friend, you must be a frien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ing new friends takes time and effort, but it is worth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343400" y="4871880"/>
            <a:ext cx="29703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itiating Friend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initiating a friendship, it is smart to make a background check on the person. There are questions young people should ask themselves about a prospective fri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I know about this pers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is person have good charac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my parents or guardians know this pers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my parents or guardians approve of my spending time with this pers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rying on a Convers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young people worry about how to talk with another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s in developing new friendships often depends on having the ability to carry on a convers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876920" y="4343400"/>
            <a:ext cx="355428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versation Keep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ing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ing interest in what someone else is sa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ing careful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ding to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ing other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correct 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ing another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ing 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ing your ideas and feel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ing someone to ta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ing eye co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versation Kill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ing about your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earing disinterested in what someone else is sa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rupting 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the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ing a know-it-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slang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ing about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inating the conver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ing eye co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ndling Rej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experiences rejection at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jection is the feeling of being unwelcome or unwa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hould a person respond to rejec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rt, anger, or disappointment should be expressed in a healthful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I-messages to share your feelings with the person who rejected your gestures of friend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 your feelings with a trusted adult if you are unable t share them with the person who rejected your friendship ges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ffirm your high self-worth even when a person rejects your friend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lanced Friend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riendship requires the commitment of two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balanced friendship is a friendship in which two people give to and receive from each other acts of kind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ing and receiving are valuable to a friend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ys to Giv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ing when a friend is discoura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ing a friend celebrate a su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ying a friend a special gift on a special occa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anyone think of any mo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5791320" y="4495680"/>
            <a:ext cx="29890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ll 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a healthful relationsh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A relationship between two people who eat health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A relationship between two people who care about each other and respect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 A relationship between two people who exercise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 A relationship between two people who study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162920" y="228600"/>
            <a:ext cx="13935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ys to Rece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ing to a friend’s compli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ing a friend’s gif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ing a friend’s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friend goes the extra mile, a person should express gratitu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477120" y="5029200"/>
            <a:ext cx="165564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-Sided Friend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one-sided friendship is a friendship in which one person does most of the giving and the other person does most of the recei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at least 2 reasons why a person might choose to do most of the giving in a friend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, people who do most of the giving in a friendship may be people plea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people pleaser is a person who constantly seeks the approval of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Rea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o not know how to receive acts of kindness from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uncomfortable accepting gifts of time or support from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never learned to rely on others to meet any of their n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y play the role of the giver in most of their relationshi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into a group of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perform a skit on one of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-sided friend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r role in the friend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r role in the friend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lanced friend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ople plea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* DO NOT tell the class which skit you are do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137280" y="3008160"/>
            <a:ext cx="26845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 2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LL 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people pleaser is someone wh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. Speaks at ev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. Likes to please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. Seeks the approval of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. Wants to be liked and noticed by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. All of the ab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. All of the above, except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alth Goal # 4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will develop skills to communicate appropriately with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29228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ding Friendships p. 156 CS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ing friends is a part of growing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ships change for many reas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riend may move away and not keep in to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riend may break confidence and the relationship is never the same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interests change, and new friends replace old 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ing Friend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there are times when a person needs to be objective about a friend and decide if that person truly is a fri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xample, if a friend regularly encourages wrong actions or actions contrary to one’s own values, it might be time to end the friend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ing Skills 10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DO NOT base your self-worth on your ability to get a 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Ask questions and get the facts before accepting a 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Decline a date when there will be pressure to do things against your own val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Honor your dating commitments and don’t change your plans if someone “better” comes alo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ing 10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Recognize the advantages of dating a variety of people rather than going stea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en years provide an opportunity to practice dating sk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380988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Make a fast exit from a date when you find yourself in a situation that violates your parents’ or guardian’s guideli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aster you leave a bad situation, the bet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869160" y="130320"/>
            <a:ext cx="17953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alth Goal # 4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will develop healthful friendshi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76720" y="3048120"/>
            <a:ext cx="20923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ing 10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Don’t hesitate to call your parents or guardian if you’re on a date and need hel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Feel comfortable about staying home when you don’t want to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. Be clear about your expectations when you give or receive a gift in a dating sit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7238880" y="5345280"/>
            <a:ext cx="15908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ing 10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. Be honest and kind when you turn someone down for a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ituation should be handled with lass and is an opportunity for you to practice social gr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 the person for the invi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st policy is to avoid dishones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781680" y="5334120"/>
            <a:ext cx="186552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ationships (Frien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relationship is a connection a person has with another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son’s health status is affected by the quality of the relationships he/she has with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healthful relationship is a relationship that promotes self-respect, encourages productivity and health, and is free of violence or drug misuse and ab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rmful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harmful relationship is a relationship that harms self-respect, interferes with productivity and health, and includes violence or drug misuse and ab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pleas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ople pleaser constantly seeks the approval of others. A people pleaser will do almost anything to be liked, including harmful behavior such as using alcohol or other dru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ople Pleas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people describe people pleasers as “doormats” because others can walk all over them with no consequ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pleasers sabotage their chances to have healthful relationships because others do not respect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143000" y="4952880"/>
            <a:ext cx="697392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nab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enabler supports others’ harmful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abler might deny or overlook another person’s harmful behavior, such as drinking, gambling or cheating, and make excuses or cover up for that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abler might contribute to another person’s harmful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553080" y="5410080"/>
            <a:ext cx="11289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lin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clinger is needy and depend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linger feels empty inside and constantly turns to another person to feel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linger has this person’s attention or affection, the clinger feels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gers sabotage their chances to have healthful relationships by not giving other people sp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4038480" y="5105520"/>
            <a:ext cx="1219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ix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ixer tries to fix other people’s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rs take on problems that are not their responsibility but are the responsibility of another per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rs are quick to give advice. They will identify different possible solutions to the other person’s problems and try them for the per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process of getting involved with other people’s problems, fixers avoid their own feelings and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7532640" y="5029200"/>
            <a:ext cx="1295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Distanc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distancer is emotionally unavailable to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stancer keeps other people from getting too close in a number of ways, such as being too busy to spend time with other people and avoiding sharing feel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rs keep other people at a distance to avoid getting hu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rs sabotage their chances to have a healthy relationship by not risking emotional invol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400800" y="5410080"/>
            <a:ext cx="182088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ntro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controller is possessive, jealous, and dominee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troller seeks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ers might tell another person what to do, what to wear, and what to believe, and they do not like to share the object of their attention with anyone el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ers sabotage their chances to have healthful relationships by not respecting the interests or opinions of others and trying to dominat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7832880" y="4838760"/>
            <a:ext cx="13111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ilyEducation.c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ypical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They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verage eleven-year-old is heading towards adolescence. H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more self-assertion and curiosit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socially expansive and awa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physically exuberant, restless, wiggly, and talks a lo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a range and intensity of emotion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moody and easily frustrat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relate feeling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competitive, wants to excel, and may put down the "out group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hibits "off-color" humor and sillines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ses and tussles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1"/>
          <a:stretch/>
        </p:blipFill>
        <p:spPr>
          <a:xfrm>
            <a:off x="6510240" y="5254560"/>
            <a:ext cx="175896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e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center is self-cent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lmost as if the center is wearing a badge that says, “ME, ME, 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ers sabotage their chances to have healthful relationships by focusing on being the center of attention and ignoring others’ n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3733920" y="4800600"/>
            <a:ext cx="297180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bus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abuser is a person who is abus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buser might constantly put others down or harm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buser might threaten, begin fights, and act in other violent ways, such as forcing another person to do something they don’t want 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users sabotage their chances of having healthful relationships by threatening or harming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i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liar does not tell the tr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esty is a foundation in any healthful relationship – people base many of their responses to others o what others tell them in conversation and ac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liar does not tell the truth, other people respond based on false information, doing and saying things they might not have done or said had they known the tr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exactly what the liar wan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ars sabotage their chances at having a healthful relationship by lying to others to get the response they w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mise Break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romise breaker is not rel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mise breaker will make pans with another person and then be a “no show,” opting instead to do something better than has come al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ise breakers sabotage their chances at having healthful relationships by not keeping their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52578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A Promise Breaker &amp; A People Plea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he promise breaker makes plans to go to a movie with a people pleaser. What happe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75248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into a group of 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EACH choose a “profile” of a harmful relatio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People pleaser, enabler, clinger, fixer, distancer, controller, center, abuser, liar, promise break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, you will act out a “MATCH UP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 3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LL 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of the following profiles is that of a person who is needy and depend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Fix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Dist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 Cl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 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alth Goal # 4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will develop skills to adequately listen to others before jumping to conclu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895480" y="3429000"/>
            <a:ext cx="37814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3149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Group of Friends vs. A Cl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uring out friendship is part of growing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be great to have a BFF or a group of pals to hang out wi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ng part of a group can help make your day easier to deal with — and you can learn some great life skills like being a good listener, sharing experiences, and respecting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can form around things people have in comm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jocks, goths, preps, skaters, and even the math club are naturally drawn together because they share similar inter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ople in these groups feel they have a place where they are welcome and supported, and where they can be themselves, quirks and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eople form groups from being in drama club, or liking the same music or movies, or even just because they like to hang out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Typical 6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Grader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they’re going: At eleven years old, the child is making the transition to adolescence. Help by encouraging her as sh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es with chang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s to adolescen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on her interpersonal skil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es peer groups and press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s personal interests and abilit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s on greater responsibility for her behavior and decision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561000" y="5334120"/>
            <a:ext cx="14223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groups stick together for a long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 drift apart after a while as people develop new interests, make different friends, or just find they have less in comm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can move in and out of different groups and can even be part of several at the same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within a group, people often have one or two friends they feel closest to and enjoy the m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friendship groups seem pretty flexible and welcome people to join 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 seem much more restricted, thoug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in these groups make it clear that not just anyone can be part of their crow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ype of restricted group is sometimes called a cliq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deal with cliqu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ques are tight groups that usually have a strict code of membership and ways to ac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being centered on shared values and beliefs, many cliques tend to focus on maintaining their status and popular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nstance, a certain clique may try to make it seem like the people in the clique are "better" than those outside, or that their clique is higher status than another cliq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in cliques sometimes use their power to hurt others on purpose, either by excluding them, being mean, or bo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they might insult people by trying to "fix" them or give them "makeovers.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it becomes more serious and someone outside the group is targeted or victimized for being, looking, or acting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like regular groups of friends, where members are free to socialize with others outside the group, people in cliques do everything toge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it together in class, go to the mall together after school — and they only do stuff with other clique members or people they decide are "cool.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hough people might think it's better to belong to a clique than to be excluded, many times people in cliques end up dealing with lots of pressures and ru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oon start to worry about whether they'll continue to be popular or whether they'll be dropp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 while, they may begin to realize that true friends wouldn't be so bossy or dema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96260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View from the Insid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's not all roses inside a clique either. A person's standing within the group can always be under threa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the followers cling to the leader not out of true friendship but because they want to keep their position in the gro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even the leader can lose her pow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lling in a clique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fact, the queen bee in a strong girl clique probably worries as much — or even more — about being popular and accepted as the outsiders d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no one feels secure, clique members often use the tools of flattery, humiliation, or rumors to manipulate situations and preserve their stat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 Confid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ew girls manage to stay friends with people both inside and outside the cliqu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at can be hard to do because there's often intense pressure from the group to be friends only with people on the approved lis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akes a lot of self-confidence to dare to be friends with someone outside the cliq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Typical 7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Gra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They 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: The average twelve-year-old is entering the stage in between childish and mature behavior. H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spirited and enthusiasti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"stay put" longer and exercise self-contro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s a growing sense of intuition and insight into self and othe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less moody and may become good-natured around adul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increasingly self-reliant and self-cente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curious but not ready for long-term plann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strong desire to be like peer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848720" y="5257800"/>
            <a:ext cx="998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viving Cliq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 yourself — and your repu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is a time for getting in touch with your values, interests, and belief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're encountering cliques, it's a good opportunity to ask yourself some self-discovery questions about what you and your true friends give each o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180120" y="4749840"/>
            <a:ext cx="146988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viving Cliq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y involved in activities that make you feel good about your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're in a clique, don't let the group pressure you into giving up things you love or spending time and money on things that aren't important to yo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're on the outside and feeling left out, getting involved in things that interest you is a great way to find a sense of belonging, help you feel valued, and take your mind off a group that's not welcom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viving Cliq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ep your social circles open and divers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ques can be very limiting in the way they control how members look, think, dress, and beha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let them make you miss out on getting to know people who may become close frien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're on the outside, it can help to find a close friend or group of friends whose values, goals, and behaviors fit in with you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viving Cliq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ak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feel your group of friends is turning into a clique, take a stand for your belief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prepared that the clique might go on without you (remember those girls who feel threatened by someone else's strength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here's also a chance that others might follow your lead and stop acting so clique-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7162920" y="685800"/>
            <a:ext cx="10922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viving Cliq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ve a mind of your 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ensitive to others and don't go along with what you don't believe is right — even if others are doing 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 only one responsible for how you act. True friends will respect your mind, your rights, and your independent choic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if someone tells you to do something that is "just a joke," say no if you know it's not right. Try not to be intimida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6248520" y="5562720"/>
            <a:ext cx="175248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eal Secr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 good friend yoursel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who enjoy true and lasting popularity are those who have good friendship skil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ng a friend means being respectful, fair, interested, trustworthy, honest, caring, and ki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if you want to have friends, be just the kind of friend you'd like to have and stay true to who you 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os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one page paper on the type of friend you want to b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in when finish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 good day!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Typical 7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Gra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is age the child is learning how to be independent as she undergoes many changes. Help by encouraging her as sh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s to cope with chang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s the transition to adolescen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on interpersonal skil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s to peer groups and press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s her personal interests and abilit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ins a greater sense of responsibility for her behavior and decision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238880" y="5181480"/>
            <a:ext cx="146232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Typical 8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Gra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atness is a key issue with personal appearance, but not with personal environmen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mirror is their best friend and worst enem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ids this age are often quieter than 12- or 14-year-old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y like to be left alone at hom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ir feelings are easily hurt and they can easily hurt other's feeling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ids this age are often mean when they're scared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ose friendships are often more important to girl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ys hang out in group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rls are more interested in older boy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th genders have a strong interest in sport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lephone, computer, video games, and other electronic diversions are a major time factor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ic is becoming a major preoccupat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er pressure increases regarding dress, language, music, in-out, being coo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ids this age worry about school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ir humor is highlighted by increasing sarcasm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rseplay and practical jokes are still popular with boy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rls enjoy collecting things (jewelry, make-up, CD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7971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Social Health? P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ing (keeping) social health means taking care of the ways in which you get along with other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do this in the following wa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friendly, open attitude toward other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to communicate effect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ect and care for family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7467480" y="5410080"/>
            <a:ext cx="1424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03:54:50Z</dcterms:created>
  <dc:creator>Hope Whiting</dc:creator>
  <dc:description/>
  <dc:language>en-US</dc:language>
  <cp:lastModifiedBy>Hope Whiting</cp:lastModifiedBy>
  <dcterms:modified xsi:type="dcterms:W3CDTF">2011-06-22T18:10:23Z</dcterms:modified>
  <cp:revision>8</cp:revision>
  <dc:subject/>
  <dc:title>Social Health</dc:title>
</cp:coreProperties>
</file>